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D3534-8329-42A0-A67A-9002006D4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559D04-0962-4804-BE4E-DD931B5A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1E3CF-90A8-4AE2-A0B6-0B85552E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004A3-B05E-4BF5-BB0B-C2E2DAEE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2FFC51-F929-45D1-8705-353D57D3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40009-3895-4A4A-8A6B-23DCDCBA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F96701-F11B-4F65-AB0D-3D419372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7B2DD8-B83F-4428-91BF-E1EBD974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E7E5E9-716C-43B9-98B9-526C99E0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6DB6A5-CE39-42AD-962D-611C78DD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E565D-03A8-40A6-83FC-1CDC8D95B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110624-7A58-4AD5-9393-4620FA7BA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8963"/>
                </a:solidFill>
                <a:latin typeface="Times New Roman"/>
              </a:rPr>
              <a:t>Seat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01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AISC CIS/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GA Tech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14300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8080" y="6114960"/>
            <a:ext cx="1752840" cy="742680"/>
            <a:chOff x="838080" y="6114960"/>
            <a:chExt cx="1752840" cy="742680"/>
          </a:xfrm>
        </p:grpSpPr>
        <p:sp>
          <p:nvSpPr>
            <p:cNvPr id="6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2200" y="611496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8080" y="682668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0240" y="682992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945720" y="634392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107360" y="638712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23444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61880" y="638712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440000" y="638712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721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61640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753560" y="634392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6080" y="634680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1355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7680" y="639036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34680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507760" y="641196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77840" y="660384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58920" y="653580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61880" y="65732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89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16400" y="653580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05480" y="660384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98360" y="653580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00880" y="653904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81520" y="660384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08960" y="660384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E4F8-FFBF-443B-A97D-175820D5A1B6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90720" y="198108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MIS Interface with Fabtro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3048120"/>
            <a:ext cx="6019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Frank Wa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huck Eastma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2971800" y="1143000"/>
          <a:ext cx="5014800" cy="518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1143000"/>
                    <a:ext cx="50148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33520" y="30492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Definition of Main Assembly (1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6483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item_property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arries a description and a proerty valu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3276720" y="1371600"/>
          <a:ext cx="5333760" cy="473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1371600"/>
                    <a:ext cx="5333760" cy="47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533520" y="30492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Definition of Main Assembly (2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43434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Structural_frame_item_relationship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carries a description and a lab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553080" y="4876920"/>
            <a:ext cx="129564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80880" y="1828800"/>
          <a:ext cx="7694640" cy="383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828800"/>
                    <a:ext cx="769464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4572000" y="1523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art I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art Mark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48520" y="1676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art Nam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1905120"/>
            <a:ext cx="533520" cy="10666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86600" y="2133720"/>
            <a:ext cx="380880" cy="15238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905120" y="3733560"/>
            <a:ext cx="2438280" cy="1522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4572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Part Identifi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149400" y="1373040"/>
          <a:ext cx="8769240" cy="445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9400" y="1373040"/>
                    <a:ext cx="876924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457200" y="3808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Section Profile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00600" y="3808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Section profile defined in flavor fi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895480" y="1066680"/>
            <a:ext cx="1981440" cy="5335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12193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Section profile defined in item_proper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43800" y="2057400"/>
            <a:ext cx="762120" cy="25146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2T03:16:57Z</dcterms:created>
  <dc:creator>Eastman</dc:creator>
  <dc:description/>
  <dc:language>en-US</dc:language>
  <cp:lastModifiedBy>fwang</cp:lastModifiedBy>
  <dcterms:modified xsi:type="dcterms:W3CDTF">2002-05-06T15:46:04Z</dcterms:modified>
  <cp:revision>2</cp:revision>
  <dc:subject/>
  <dc:title>No Slide Title</dc:title>
</cp:coreProperties>
</file>